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BAC-86F7-4A15-A093-80B48040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FEB-FAC3-4AFA-B50E-462409D4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4E0069-9883-470B-80BF-86A775FC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50D7B8-C394-4671-82B2-6F2BFD0B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97F811-5DB3-4228-8ECB-0C2DEA96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17C415-BD14-405A-B37C-266383E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C566C5-81E3-4AC5-89E7-051B36CB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7052C4-EB58-4525-BBD9-9F867B7C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7FD23E-DDD5-47D9-AEF6-396FC1CD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E75036-989D-4CE1-85E5-B6A3E090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E2ADBE-58FC-49C0-B9A6-C231C4F9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6107A4-41B1-4D55-A472-CFF0BE61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BBB-2473-4883-B428-6A1AC236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742BC8-EE10-4EC7-A4C1-44325C77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02A909-B9BC-4113-9FC6-9ACC6D19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6187ED-4C8C-41CD-BF52-4A7E9CB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E7011E-8454-4F04-9C91-D30E46C2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D39D4-D6F8-4978-9E98-4FBEA240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49DB0E-CF1E-4338-9626-E468384B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BFD4B5-227D-4FEA-9763-F88487C4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2DC72B-25C8-465F-A170-28127464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4C4932-DE6A-4BF1-8B7A-778E6AD5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3DA37E-293E-4917-8FDB-F6A1D79B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DA7-4B57-43B5-9398-75BDB2EB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24C896-D449-444A-9541-A2843E26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FE7A55-76FA-487A-901B-712D51FA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BBCDA2-00EB-4060-A33F-C4AD7C99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B7C174-0027-47F0-A110-EF80387C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C6BB66-CA13-4D70-8FC2-BFAD252C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3340DA-37EE-468B-9D71-A0D0506D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F54974-C097-4C3A-9560-B6F97E32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C5E903-5214-45C0-84A4-43A6831A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FC7A98-3ABE-4707-83EF-4A0520EC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D505E4-3251-4710-A662-969DA691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7CBA7F-D78A-4392-8FFC-FF78A52D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C242E0-000D-4571-9B35-1AA5AE54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F1CCAE-46AB-4576-ABEB-58BC80EC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1B8ABC-C189-4734-9022-2ED89624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0247A4-3AD6-490D-BC2B-3A61CC94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FDE63F-7980-45D8-AE8B-37AF0197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A95D90-A9B9-499D-A998-E264DED5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0FFD5C-FBC8-4059-BCBE-75049B4D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06D207-148A-412A-A0AB-C18EB481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087384-FF17-46D8-8C84-E2CEB652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5B1063-4C48-4C14-A92D-2340094A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A6954E-CD16-4C83-ACB4-48584443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0F1B3F-F9E9-4B2A-8D57-DCD9591D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0657DF-167B-46F5-9C52-4696195C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FCCE31-C569-40B1-95C3-8BA93CF7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BCAFDC-5713-4B65-A7B1-3F996586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3EC73D-682F-4DA7-A3F4-4EFECCAB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B70728-5602-41F7-8F79-9A840F56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98EA54-EEE5-46D2-8A38-D61C36F8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ECD4E5-CB29-4B9B-ACE6-8E750AFE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E12D0C-2563-46B3-8A72-F7A1DD7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44C560-0A91-460B-A7FC-C9D5CDDD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E14461-29E6-4CE7-9168-9BC12367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35D15C-4A0F-4CBC-96F8-FE893DD6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0D0B6E-0136-4552-83C7-9D378E83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5778DF-59DC-460F-8FE0-4A511098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1F1FE0-B29D-4A05-B8EC-29D39290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9FB-894A-479A-BE75-6905932B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69438-5337-4E5C-BD41-628D0633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9E8A1-BB73-43BC-8FDE-579058CB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31FEE-7A52-47EE-BBDE-43FCEB76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74D61-14A4-4F8E-A8F6-61B1B179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D49A6-3062-43C7-87EC-864854B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2D8-6451-43AE-8AE4-4615546A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AFBF6-55EF-4D87-BBBA-FD846EE1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EB6B0-7E58-4571-918D-7D6876D8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23ADE-899B-4D2F-93E8-2C180D6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CC1E9-746B-4CB4-9EDA-BD112E81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D47C4-38B3-4911-97EC-EE7A9495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5FE25-D209-474E-A088-BD78C8D2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5A097-A766-4B14-B8A6-E0DA46CD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708B89-97E3-4F4A-8D1E-029D9FEC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E36B9-73ED-4A88-A851-8E8AF358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AC355-0AA6-450B-A351-3F555E84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DBE-ACEF-48E9-944D-53CB3D7D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5F5437-5AC5-4630-BD36-6CC510E0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389B5-3499-4AC3-9529-E1B5A991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D44AFC-7563-43C1-8C93-6AF048CD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0AE1CA-AEB0-418D-B546-3DA417D7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C0280-27B9-4830-8E5E-7B2FE39F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19BD6-1A3C-4E00-8917-60A54235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85134-3581-41B4-8EB5-E0870CCF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5A673-A3A6-4BF7-ABE9-6C4D69E4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997F1-2073-4DD2-9022-36910AD5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DE4FE-D906-4251-8228-32C8711A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619-4047-4536-A201-E3DCBEDB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C00BE-E989-45DC-A52F-F2AD9184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FE649-6230-48B4-AD88-CECE0A5D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959D8-AC1B-4B60-9FA3-3808E538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3419F-F7E8-4A68-BCB7-2A8BE61A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3CE34-C0CD-4215-9E7C-EEF653CA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CC510-CAFD-4BC1-8931-4622E3B2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D4C60-628E-4E1A-B7CC-7B3F1EF2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D748D1-0CBE-4A00-B07A-96F69CC2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3EBF32-3069-4995-8F3F-58BD1EC2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089D0-9B9A-42F0-ABCA-D35D930A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484-DEA9-471A-BF1A-742DEB15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F00A8-8ECB-451B-B924-D4E85D99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45368-CC2B-4DC1-B33A-D604A423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6DFE9-E9EE-48B3-8642-CF7C98EB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86368-CDA6-458C-B393-E468F7B5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AD2C78-1BB7-4ED7-AE05-38CED8B2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92666-B5DA-45C0-A783-D7258819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F855B-AB70-4819-9513-D8E5AD8A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97809-DF17-4D13-A976-286C46B8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3A006-50A6-4883-A4CF-1366AF94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BADC5-E197-4D26-BE05-FCDE8276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F80-5554-4EFD-9E96-D671D458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C35EE-AA74-4008-880E-4A30D7B9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5F881-1583-473E-920A-E8FC707B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48A3F-5CFC-4BBE-9ECB-03AB737E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E47E9-B3B5-4E4D-B558-6394C70A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6ED35-5F88-4CEF-BFD4-C3EAFBE9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33E17-CC6D-46A1-9E08-719B5B28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5FD52-1F91-40BF-95B2-A6FB87F2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DA9A3-762D-47EC-BC48-8FA45686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A3A81-6505-46BD-B8DF-FF1C675B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C62C6-01F5-4122-8D15-19210A13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76F-D060-405D-B614-82DECD6D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BE5B3-330C-4461-AFD8-E0D9044B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C5A5F-4CBF-4D0E-ABE5-9DE12E3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2B653-3F02-49E4-B41C-125FD469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8B4DF-04D5-4865-A614-8C24701C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5AF44-DEB6-4AEB-A8E6-E86754B6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6B33D7-50EC-4A08-8DC9-980B3259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E097F2-FE40-44EC-85A8-DE6AADF2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557B5-4BF5-4CFF-A8B3-96B4B94D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E7A0BE-248E-4278-A730-CC177F80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B1B355-CF5A-489C-92D1-A4421D94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F92-48EE-4E18-9EBA-344C328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190289-9950-4BA1-B702-67CA0F17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79598F-96B8-4DB2-B832-8B5F8817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091D7E-38DB-484D-B33C-5D8D5B6E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CD18D-D419-4B0B-B92A-795FD14F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85598B-2D79-4847-895B-069ACB86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31F51A-99C9-4CF0-A2A7-DC95E7DD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7B673-192A-42E7-B1AB-D80A30D0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7297D2-B04F-4B3C-8C1C-DBE5F696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F464A5-B4C6-4E32-AE8D-C90D1FF5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8C46BE-DE6D-49FD-9FDF-3EB57758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E5B0-A248-4D14-B6C4-DE1FB136B96A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71B3-A2B0-4456-9023-2F714BC81AE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2FC5-8C38-447F-85AA-88A4166B597F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32FE-B9FB-42F2-A0CA-E26E0494A2B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343-0A65-4EAD-82B3-A907B7C38521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49D7-406D-4F2E-AE34-4C845F1706E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5DDE-F9A0-4205-8378-6BE94D8C740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2D06-C078-47C5-9EC6-25BB81C7EC4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D143-44D8-41C1-897C-541F2E9B47D8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21F6-A74B-44AE-9CB5-C19F397D0AA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C127-7112-419E-8311-CC566E7D5DFF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4370-9CB0-4F13-A069-E2C71151B63E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7210-0572-43A2-A2CE-237D3A403D9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0514-CEB8-4D3F-9956-8A6E04A48237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40E1-E768-4CB4-938B-821868409D0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B600-5FB2-481C-8689-3397E3927288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2FD6-26C6-4661-8EF5-790D1ED971F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DFB5-043E-4869-AC59-F7A85E9DF769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6F61-66D4-4069-BAA0-334E2D90C3F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A83A-1B0D-4108-A4DF-E27756BA0EC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91A3-E9C2-4DD0-84B0-FAEA3A1F95F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4B6-A94B-4AA2-A53D-3B8D8C33077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7235-25FC-4F05-A66F-CF8530969F6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0BF6-0458-4380-9D66-060D3D46FC70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658B-31C2-422D-A52E-D9F38F7FCD6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2"/>
          <a:stretch/>
        </p:blipFill>
        <p:spPr>
          <a:xfrm>
            <a:off x="493560" y="2487600"/>
            <a:ext cx="81568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088640" y="1981080"/>
            <a:ext cx="7272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at is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people willing to move to colonies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Native Americans adversely affected by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Hernán Corté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88640" y="129528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1 – part of Spanish troops who conquered Cub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9 – set sail for Mexico with 11 ships, 550 men, and 16 hors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ttacked upon arrival, but quickly killed nativ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guilar and Doña Marina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translato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Gains allies as he marches towards Aztec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48" name="Picture 3" descr="cortes.jpg"/>
          <p:cNvPicPr/>
          <p:nvPr/>
        </p:nvPicPr>
        <p:blipFill>
          <a:blip r:embed="rId2"/>
          <a:stretch/>
        </p:blipFill>
        <p:spPr>
          <a:xfrm>
            <a:off x="6705720" y="3429000"/>
            <a:ext cx="2227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pain vs. Aztec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88640" y="1371240"/>
            <a:ext cx="7272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(Aztec emperor) attempted peace offering with Cortés, but it was rejected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s attempt to ambush Spanish on the way, but are defeated easily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November 8, 1519 – Spanish troops walk peacefully into city of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taken captive by Cortés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 priests rebelled and drove the Spanish out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Smallpox wins the war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ay 1521 – Cortés takes over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New Spain’s Society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Encomienda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ystem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en put in charge of entire villages and get paid a portion of productio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ociety based on class</a:t>
            </a: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 (peninsulares, criollos, and mestizos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ots of abuse of Native Americans under Spanish rul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53" name="Picture 3" descr="encomienda.jpg"/>
          <p:cNvPicPr/>
          <p:nvPr/>
        </p:nvPicPr>
        <p:blipFill>
          <a:blip r:embed="rId2"/>
          <a:stretch/>
        </p:blipFill>
        <p:spPr>
          <a:xfrm>
            <a:off x="274320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French Empir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iginally sent people looking for Northwest Passag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amuel de Champlai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1608 – founded Quebec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Very involved in fur trad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ess harsh to Native American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rench huguenots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religious refuge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ent all the way down to Louisian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colonies.jpg"/>
          <p:cNvPicPr/>
          <p:nvPr/>
        </p:nvPicPr>
        <p:blipFill>
          <a:blip r:embed="rId2"/>
          <a:stretch/>
        </p:blipFill>
        <p:spPr>
          <a:xfrm>
            <a:off x="1905120" y="304920"/>
            <a:ext cx="59436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   </a:t>
            </a: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How might your lives be different today if Europeans had not colonized America, but rather it had been people from Africa, the Middle East, or Asia?</a:t>
            </a:r>
            <a:endParaRPr b="0" lang="en-US" sz="3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29:11Z</dcterms:created>
  <dc:creator>Moffa, David</dc:creator>
  <dc:description/>
  <dc:language>en-US</dc:language>
  <cp:lastModifiedBy>Moffa, David</cp:lastModifiedBy>
  <dcterms:modified xsi:type="dcterms:W3CDTF">2010-10-28T14:03:37Z</dcterms:modified>
  <cp:revision>20</cp:revision>
  <dc:subject/>
  <dc:title>Spain and France Build Empires in America</dc:title>
</cp:coreProperties>
</file>